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EA0-B8B3-4FC3-A8EB-5D7181B523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306F-DFBD-4DF1-A614-646ACED6A6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39B-538A-469B-8D31-D69702C9371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46B-CCA2-4468-B4B3-900BAE9D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6B8-5915-4157-961B-11A45EA4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E1E-C835-4510-9BA0-FA38C084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A05-2F73-4B3E-AEF4-31428FF7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98E-7035-4BA5-9D9D-B78A2867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4919-1247-46C8-8027-9195F8D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04BF-E359-4961-AF9B-4B299312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CD85-5E20-444D-8E04-54214C9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AA64-94EC-4A10-8A19-79F90C8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6E7B-9274-423F-9575-CAE0F7C6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8897-FEF3-4668-A3E2-9937779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D0C-A08B-4292-996E-DED8D23B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A620-93BC-43FC-9A7D-5C875C8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3FFB-29A2-4296-B08B-84DE9EA9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BC05-A851-4242-A3B0-B6717A88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A487-2449-4BA0-AE4F-CC8A1F81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D2F-9350-41AC-A481-C71F5245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9FA6-3CB1-4560-A125-8B78D7F0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B362-3094-4C97-8AE0-DC8CFBF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198A-3F95-45BB-97A9-F186BB28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B417-4B7C-4F9B-9587-B0B51CE8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222D-ED58-4DBC-938B-616485A0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9DA-18DF-4E92-A068-E1E68612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E33C-B769-4998-A805-EF5DCF92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5150-6AF6-4A06-9508-0639616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57EA-5A8D-4339-990E-4FEF5AD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AA84-0D88-4319-B350-88242790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1418-A774-4CFA-BB2A-2F96667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D62C-4B8E-4F06-8A65-DA9ADEE6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F985-CEFA-487E-A4E6-5D5CF0BA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1E7B-4482-4891-AF7E-C03CF54A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44EF-80E3-47A8-8929-C64E3A2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BFF4-D711-40ED-BB1B-8103D2EC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F1F-2D4F-4FC9-9F64-BAC9114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4E5E-A459-4BF0-8D54-DD142194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D7E6-838A-4137-97BC-C2DD6DAB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8DEB-8D80-4301-851A-F12320E1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895E-DA17-4457-98B3-EEAD065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5524-3AD9-4CB0-A221-15B4E4E1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55DF-5B97-4901-B884-290169A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1FE8-4589-48CF-8591-79F30673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805E-FF22-43A8-8249-484EBA27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5484-7890-4ED5-A722-AF8FCC71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064DA-894A-4C48-B787-ED4FD8EC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D6B-9126-43EC-84D0-896F162B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1DB3-DC77-4B12-96A6-F5CA0DF1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69A0-A33D-4836-9DAA-E14CB2B8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6E8A-44B8-4402-B66B-6C318D1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2458-2359-41BD-BA7D-8F7D9520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CFFF-8EDE-4044-A7FB-08DA3409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77C7E-AA46-4060-B157-C3BF342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2523-BC9E-4BA3-892E-7600B36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F8A92-8B19-4CA2-A8D1-72D38E1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A7CD4-BD19-483D-A46D-CCDDB04B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DCF6-6223-4261-84BF-3E82E7EA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361-5664-4FFC-A3C8-163C9E2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5F84F-3237-4107-8137-4EEB14FF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AEC-3D46-4A7F-833C-6EC0BDDB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F1C-17DA-4FA9-BFA3-D981B56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AF9-7683-4FA8-A39D-42D733A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5FD3-BA26-49F1-941F-826C19F1826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29E3-DFBB-4269-80AE-55A11EC333B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22E-2057-49CA-9C17-C746CA071DD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29B3-3FB6-41AB-B71B-6ED49E3C035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5FDA-0CCC-4460-BD2A-F893ECF9126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hyperlink" Target="http://ru.wikipedia.org/wiki/&#1048;&#1079;&#1086;&#1073;&#1088;&#1072;&#1078;&#1077;&#1085;&#1080;&#1077;:Buckthroneroom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14" descr=""/>
          <p:cNvPicPr/>
          <p:nvPr/>
        </p:nvPicPr>
        <p:blipFill>
          <a:blip r:embed="rId2"/>
          <a:stretch/>
        </p:blipFill>
        <p:spPr>
          <a:xfrm>
            <a:off x="-139680" y="1047600"/>
            <a:ext cx="9539280" cy="2457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63440" y="4199040"/>
            <a:ext cx="640692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LONDON SIGHT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4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Documents and Settings\Кравцов Иван\Рабочий стол\биг бен\2.jpg"/>
          <p:cNvPicPr/>
          <p:nvPr/>
        </p:nvPicPr>
        <p:blipFill>
          <a:blip r:embed="rId2"/>
          <a:stretch/>
        </p:blipFill>
        <p:spPr>
          <a:xfrm>
            <a:off x="571680" y="571680"/>
            <a:ext cx="2714400" cy="371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Documents and Settings\Кравцов Иван\Рабочий стол\биг бен\5.jpg"/>
          <p:cNvPicPr/>
          <p:nvPr/>
        </p:nvPicPr>
        <p:blipFill>
          <a:blip r:embed="rId3"/>
          <a:stretch/>
        </p:blipFill>
        <p:spPr>
          <a:xfrm>
            <a:off x="4643280" y="3143160"/>
            <a:ext cx="2928960" cy="31435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3"/>
          <p:cNvSpPr/>
          <p:nvPr/>
        </p:nvSpPr>
        <p:spPr>
          <a:xfrm>
            <a:off x="3143160" y="500040"/>
            <a:ext cx="4929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doni MT Condensed"/>
              </a:rPr>
              <a:t>Big Ben is not the name of the clock on the Tower of Westminster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285840" y="4500720"/>
            <a:ext cx="43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doni MT Condensed"/>
              </a:rPr>
              <a:t>but it is the nickname of the bell inside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Documents and Settings\Кравцов Иван\Рабочий стол\биг бен\3.jpg"/>
          <p:cNvPicPr/>
          <p:nvPr/>
        </p:nvPicPr>
        <p:blipFill>
          <a:blip r:embed="rId2"/>
          <a:stretch/>
        </p:blipFill>
        <p:spPr>
          <a:xfrm>
            <a:off x="4857840" y="21420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C:\Documents and Settings\Кравцов Иван\Рабочий стол\биг бен\i.jpg"/>
          <p:cNvPicPr/>
          <p:nvPr/>
        </p:nvPicPr>
        <p:blipFill>
          <a:blip r:embed="rId3"/>
          <a:stretch/>
        </p:blipFill>
        <p:spPr>
          <a:xfrm>
            <a:off x="571680" y="314316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428760" y="1643040"/>
            <a:ext cx="447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Bodoni MT Condensed"/>
              </a:rPr>
              <a:t>It was made in 1858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4071960" y="3857760"/>
            <a:ext cx="3643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doni MT Condensed"/>
              </a:rPr>
              <a:t>Nobody knows for sure why Big Ben is called Big Ben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Кравцов Иван\Рабочий стол\биг бен\4.jpg"/>
          <p:cNvPicPr/>
          <p:nvPr/>
        </p:nvPicPr>
        <p:blipFill>
          <a:blip r:embed="rId2"/>
          <a:stretch/>
        </p:blipFill>
        <p:spPr>
          <a:xfrm>
            <a:off x="214200" y="357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Documents and Settings\Кравцов Иван\Рабочий стол\биг бен\1.jpg"/>
          <p:cNvPicPr/>
          <p:nvPr/>
        </p:nvPicPr>
        <p:blipFill>
          <a:blip r:embed="rId3"/>
          <a:stretch/>
        </p:blipFill>
        <p:spPr>
          <a:xfrm>
            <a:off x="4786200" y="3643200"/>
            <a:ext cx="3214800" cy="264348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3357720" y="571680"/>
            <a:ext cx="464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doni MT Condensed"/>
              </a:rPr>
              <a:t>many people think it was something to do with Si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doni MT Condensed"/>
              </a:rPr>
              <a:t>Benjamin Hall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doni MT Condensed"/>
              </a:rPr>
              <a:t>a rather fat man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0" y="3571920"/>
            <a:ext cx="47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doni MT Condensed"/>
              </a:rPr>
              <a:t>who was in charge of the building works at Westminst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doni MT Condensed"/>
              </a:rPr>
              <a:t>and whose nickname w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doni MT Condensed"/>
              </a:rPr>
              <a:t> “</a:t>
            </a:r>
            <a:r>
              <a:rPr b="1" lang="en-US" sz="4000" spc="-1" strike="noStrike">
                <a:solidFill>
                  <a:srgbClr val="0070c0"/>
                </a:solidFill>
                <a:latin typeface="Bodoni MT Condensed"/>
              </a:rPr>
              <a:t>Big Ben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2"/>
          <a:stretch/>
        </p:blipFill>
        <p:spPr>
          <a:xfrm>
            <a:off x="353880" y="158760"/>
            <a:ext cx="7620120" cy="774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85480" y="5357880"/>
            <a:ext cx="75438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Bodoni MT"/>
              </a:rPr>
              <a:t>This is where Queen Elizabeth II lives much of the ti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800" y="140040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003640" y="2276640"/>
          <a:ext cx="2511720" cy="502920"/>
        </p:xfrm>
        <a:graphic>
          <a:graphicData uri="http://schemas.openxmlformats.org/drawingml/2006/table">
            <a:tbl>
              <a:tblPr/>
              <a:tblGrid>
                <a:gridCol w="2295720"/>
                <a:gridCol w="216000"/>
              </a:tblGrid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25" descr="C:\Documents and Settings\Кравцов Иван\Рабочий стол\букингемский дворец\7.jpg"/>
          <p:cNvPicPr/>
          <p:nvPr/>
        </p:nvPicPr>
        <p:blipFill>
          <a:blip r:embed="rId3"/>
          <a:stretch/>
        </p:blipFill>
        <p:spPr>
          <a:xfrm>
            <a:off x="214200" y="1357200"/>
            <a:ext cx="7643880" cy="3786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4"/>
          <p:cNvSpPr/>
          <p:nvPr/>
        </p:nvSpPr>
        <p:spPr>
          <a:xfrm>
            <a:off x="500040" y="5473800"/>
            <a:ext cx="757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Script MT Bold"/>
              </a:rPr>
              <a:t>Buckingham Palace is enormous. There are also 600 rooms, 78 bathrooms, a cinema, a swimming pool. And even a post offi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72360" cy="5516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Кравцов Иван\Рабочий стол\букингемский дворец\11.jpg"/>
          <p:cNvPicPr/>
          <p:nvPr/>
        </p:nvPicPr>
        <p:blipFill>
          <a:blip r:embed="rId2"/>
          <a:stretch/>
        </p:blipFill>
        <p:spPr>
          <a:xfrm>
            <a:off x="4357800" y="357192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Тронный зал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28760"/>
            <a:ext cx="3286080" cy="335736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3"/>
          <p:cNvSpPr/>
          <p:nvPr/>
        </p:nvSpPr>
        <p:spPr>
          <a:xfrm>
            <a:off x="3571920" y="642960"/>
            <a:ext cx="428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cript MT Bold"/>
              </a:rPr>
              <a:t>About 450 people work at the Palace. Th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cript MT Bold"/>
              </a:rPr>
              <a:t>Are servants, cleaners, footmen, garden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cript MT Bold"/>
              </a:rPr>
              <a:t>and security 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0" y="4214880"/>
            <a:ext cx="400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Script MT Bold"/>
              </a:rPr>
              <a:t>Two people look after the 300 c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2"/>
          <a:stretch/>
        </p:blipFill>
        <p:spPr>
          <a:xfrm>
            <a:off x="485640" y="311040"/>
            <a:ext cx="7255080" cy="695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6" descr="В королевском окружении"/>
          <p:cNvPicPr/>
          <p:nvPr/>
        </p:nvPicPr>
        <p:blipFill>
          <a:blip r:embed="rId3"/>
          <a:stretch/>
        </p:blipFill>
        <p:spPr>
          <a:xfrm>
            <a:off x="642960" y="1214280"/>
            <a:ext cx="6929280" cy="44294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465948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714240" y="571500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4d1d"/>
                </a:solidFill>
                <a:latin typeface="Script MT Bold"/>
              </a:rPr>
              <a:t>Is the most popular and talked about wax museum in the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7"/>
          <p:cNvSpPr/>
          <p:nvPr/>
        </p:nvSpPr>
        <p:spPr>
          <a:xfrm>
            <a:off x="3929040" y="571680"/>
            <a:ext cx="4214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4d1d"/>
                </a:solidFill>
                <a:latin typeface="Script MT Bold"/>
              </a:rPr>
              <a:t>There are wax models of the famous and infamou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4d1d"/>
                </a:solidFill>
                <a:latin typeface="Script MT Bold"/>
              </a:rPr>
              <a:t>both living and dead, from every walk of lif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Прямоугольник 8"/>
          <p:cNvSpPr/>
          <p:nvPr/>
        </p:nvSpPr>
        <p:spPr>
          <a:xfrm>
            <a:off x="285840" y="364320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4d1d"/>
                </a:solidFill>
                <a:latin typeface="Script MT Bold"/>
              </a:rPr>
              <a:t>David Beckham, Madonna, Elvis Presley, the Beatles, Charlie Chaplin, Jack the Ripp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3440" cy="2440080"/>
          </a:xfrm>
          <a:prstGeom prst="rect">
            <a:avLst/>
          </a:prstGeom>
          <a:ln w="13320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3024000" cy="3311640"/>
          </a:xfrm>
          <a:prstGeom prst="rect">
            <a:avLst/>
          </a:prstGeom>
          <a:ln w="133200">
            <a:solidFill>
              <a:srgbClr val="000000"/>
            </a:solidFill>
            <a:miter/>
          </a:ln>
        </p:spPr>
      </p:pic>
    </p:spTree>
  </p:cSld>
  <p:transition spd="slow" advTm="4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6"/>
          <p:cNvSpPr/>
          <p:nvPr/>
        </p:nvSpPr>
        <p:spPr>
          <a:xfrm>
            <a:off x="142920" y="357120"/>
            <a:ext cx="3929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4d1d"/>
                </a:solidFill>
                <a:latin typeface="Script MT Bold"/>
              </a:rPr>
              <a:t>There is no place where you can see all the celebrities at once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Прямоугольник 7"/>
          <p:cNvSpPr/>
          <p:nvPr/>
        </p:nvSpPr>
        <p:spPr>
          <a:xfrm>
            <a:off x="3429000" y="3571920"/>
            <a:ext cx="46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4d1d"/>
                </a:solidFill>
                <a:latin typeface="Script MT Bold"/>
              </a:rPr>
              <a:t>even if they are only wa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4d1d"/>
                </a:solidFill>
                <a:latin typeface="Script MT Bold"/>
              </a:rPr>
              <a:t>figures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2881440" cy="3529080"/>
          </a:xfrm>
          <a:prstGeom prst="rect">
            <a:avLst/>
          </a:prstGeom>
          <a:ln w="133200">
            <a:solidFill>
              <a:srgbClr val="000000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427640" y="260280"/>
            <a:ext cx="3168720" cy="3384720"/>
          </a:xfrm>
          <a:prstGeom prst="rect">
            <a:avLst/>
          </a:prstGeom>
          <a:ln w="133200">
            <a:solidFill>
              <a:srgbClr val="000000"/>
            </a:solidFill>
            <a:miter/>
          </a:ln>
        </p:spPr>
      </p:pic>
    </p:spTree>
  </p:cSld>
  <p:transition spd="slow" advTm="4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3"/>
          <p:cNvSpPr/>
          <p:nvPr/>
        </p:nvSpPr>
        <p:spPr>
          <a:xfrm>
            <a:off x="3714840" y="857160"/>
            <a:ext cx="43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4d1d"/>
                </a:solidFill>
                <a:latin typeface="Script MT Bold"/>
              </a:rPr>
              <a:t>The wax figures are standing and sitting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4"/>
          <p:cNvSpPr/>
          <p:nvPr/>
        </p:nvSpPr>
        <p:spPr>
          <a:xfrm>
            <a:off x="142920" y="37148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4d1d"/>
                </a:solidFill>
                <a:latin typeface="Script MT Bold"/>
              </a:rPr>
              <a:t>and sometim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4d1d"/>
                </a:solidFill>
                <a:latin typeface="Script MT Bold"/>
              </a:rPr>
              <a:t> </a:t>
            </a:r>
            <a:r>
              <a:rPr b="0" lang="en-US" sz="4000" spc="-1" strike="noStrike">
                <a:solidFill>
                  <a:srgbClr val="b24d1d"/>
                </a:solidFill>
                <a:latin typeface="Script MT Bold"/>
              </a:rPr>
              <a:t>even moving and talking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313080" cy="3833640"/>
          </a:xfrm>
          <a:prstGeom prst="rect">
            <a:avLst/>
          </a:prstGeom>
          <a:ln w="133200">
            <a:solidFill>
              <a:srgbClr val="0000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097080" cy="3456000"/>
          </a:xfrm>
          <a:prstGeom prst="rect">
            <a:avLst/>
          </a:prstGeom>
          <a:ln w="133200">
            <a:solidFill>
              <a:srgbClr val="000000"/>
            </a:solidFill>
            <a:miter/>
          </a:ln>
        </p:spPr>
      </p:pic>
    </p:spTree>
  </p:cSld>
  <p:transition spd="slow"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-684720" y="1700280"/>
            <a:ext cx="98283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rebuchet MS"/>
              </a:rPr>
              <a:t>Have you ever been to Londo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rebuchet MS"/>
              </a:rPr>
              <a:t>Have you ever seen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rebuchet MS"/>
              </a:rPr>
              <a:t>How do I get to … 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rebuchet MS"/>
              </a:rPr>
              <a:t>Can you tell us …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rebuchet MS"/>
              </a:rPr>
              <a:t>Where is…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4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2"/>
          <a:stretch/>
        </p:blipFill>
        <p:spPr>
          <a:xfrm>
            <a:off x="450720" y="158760"/>
            <a:ext cx="7255080" cy="774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Documents and Settings\Кравцов Иван\Рабочий стол\гайд парк\16.jpg"/>
          <p:cNvPicPr/>
          <p:nvPr/>
        </p:nvPicPr>
        <p:blipFill>
          <a:blip r:embed="rId3"/>
          <a:stretch/>
        </p:blipFill>
        <p:spPr>
          <a:xfrm>
            <a:off x="142920" y="1500120"/>
            <a:ext cx="3714840" cy="3357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Documents and Settings\Кравцов Иван\Рабочий стол\гайд парк\17.jpg"/>
          <p:cNvPicPr/>
          <p:nvPr/>
        </p:nvPicPr>
        <p:blipFill>
          <a:blip r:embed="rId4"/>
          <a:stretch/>
        </p:blipFill>
        <p:spPr>
          <a:xfrm>
            <a:off x="4000680" y="3929040"/>
            <a:ext cx="3786120" cy="264312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6"/>
          <p:cNvSpPr/>
          <p:nvPr/>
        </p:nvSpPr>
        <p:spPr>
          <a:xfrm>
            <a:off x="3929040" y="1643040"/>
            <a:ext cx="3992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There are more parks in London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in any other capital of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C:\Documents and Settings\Кравцов Иван\Рабочий стол\гайд парк\18.jpg"/>
          <p:cNvPicPr/>
          <p:nvPr/>
        </p:nvPicPr>
        <p:blipFill>
          <a:blip r:embed="rId2"/>
          <a:stretch/>
        </p:blipFill>
        <p:spPr>
          <a:xfrm>
            <a:off x="357120" y="3429000"/>
            <a:ext cx="3714840" cy="2779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Documents and Settings\Кравцов Иван\Рабочий стол\гайд парк\20.jpg"/>
          <p:cNvPicPr/>
          <p:nvPr/>
        </p:nvPicPr>
        <p:blipFill>
          <a:blip r:embed="rId3"/>
          <a:stretch/>
        </p:blipFill>
        <p:spPr>
          <a:xfrm>
            <a:off x="4500720" y="428760"/>
            <a:ext cx="3429000" cy="264312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285840" y="714240"/>
            <a:ext cx="40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Script MT Bold"/>
              </a:rPr>
              <a:t>One of the most popular ones is Hyde P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4429080" y="3786120"/>
            <a:ext cx="357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cript MT Bold"/>
              </a:rPr>
              <a:t>One of the most popular on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Script MT Bold"/>
              </a:rPr>
              <a:t>is Hyde P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Documents and Settings\Кравцов Иван\Рабочий стол\гайд парк\21.jpg"/>
          <p:cNvPicPr/>
          <p:nvPr/>
        </p:nvPicPr>
        <p:blipFill>
          <a:blip r:embed="rId2"/>
          <a:stretch/>
        </p:blipFill>
        <p:spPr>
          <a:xfrm>
            <a:off x="285840" y="500040"/>
            <a:ext cx="3643200" cy="2714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Documents and Settings\Кравцов Иван\Рабочий стол\гайд парк\22.jpg"/>
          <p:cNvPicPr/>
          <p:nvPr/>
        </p:nvPicPr>
        <p:blipFill>
          <a:blip r:embed="rId3"/>
          <a:stretch/>
        </p:blipFill>
        <p:spPr>
          <a:xfrm>
            <a:off x="4214880" y="3857760"/>
            <a:ext cx="3643200" cy="25714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4"/>
          <p:cNvSpPr/>
          <p:nvPr/>
        </p:nvSpPr>
        <p:spPr>
          <a:xfrm>
            <a:off x="4143240" y="571680"/>
            <a:ext cx="378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Script MT Bold"/>
              </a:rPr>
              <a:t>It’s a really nice place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Script MT Bold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Script MT Bold"/>
              </a:rPr>
              <a:t>green and peaceful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285840" y="3929040"/>
            <a:ext cx="3786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cript MT Bold"/>
              </a:rPr>
              <a:t>In the middle of the hustle and bustle of Lond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Кравцов Иван\Рабочий стол\гайд парк\24.jpg"/>
          <p:cNvPicPr/>
          <p:nvPr/>
        </p:nvPicPr>
        <p:blipFill>
          <a:blip r:embed="rId2"/>
          <a:stretch/>
        </p:blipFill>
        <p:spPr>
          <a:xfrm>
            <a:off x="4000680" y="214200"/>
            <a:ext cx="4071600" cy="264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200px-HydePark"/>
          <p:cNvPicPr/>
          <p:nvPr/>
        </p:nvPicPr>
        <p:blipFill>
          <a:blip r:embed="rId3"/>
          <a:stretch/>
        </p:blipFill>
        <p:spPr>
          <a:xfrm>
            <a:off x="285840" y="3357720"/>
            <a:ext cx="3786120" cy="300024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4"/>
          <p:cNvSpPr/>
          <p:nvPr/>
        </p:nvSpPr>
        <p:spPr>
          <a:xfrm>
            <a:off x="214200" y="214200"/>
            <a:ext cx="3786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Hyde Park is also famous for its Speaker’s corner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4143240" y="3357720"/>
            <a:ext cx="4000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cript MT Bold"/>
              </a:rPr>
              <a:t>where anyone can stand on a box and shout out their opinions into the crow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C:\Documents and Settings\Кравцов Иван\Рабочий стол\аббатство\8.jpg"/>
          <p:cNvPicPr/>
          <p:nvPr/>
        </p:nvPicPr>
        <p:blipFill>
          <a:blip r:embed="rId2"/>
          <a:stretch/>
        </p:blipFill>
        <p:spPr>
          <a:xfrm>
            <a:off x="285840" y="1143000"/>
            <a:ext cx="4429080" cy="542916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3"/>
          <p:cNvSpPr/>
          <p:nvPr/>
        </p:nvSpPr>
        <p:spPr>
          <a:xfrm>
            <a:off x="4643280" y="1214280"/>
            <a:ext cx="39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Script MT Bold"/>
              </a:rPr>
              <a:t>The place of coronation of every 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Script MT Bold"/>
              </a:rPr>
              <a:t>And queen since Willi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Script MT Bold"/>
              </a:rPr>
              <a:t>The Conqueror in 106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4643280" y="300024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The coronation chair dates from 12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The last person to sit on it was Queen Elizabeth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</a:t>
            </a: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 , who was crowned here in 195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285920" y="28584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cript MT Bold"/>
              </a:rPr>
              <a:t>WESTMINSTER ABBE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142920" y="142920"/>
            <a:ext cx="5214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Script MT Bold"/>
              </a:rPr>
              <a:t>Many British monarchs, writers, poets, musicians and scientists are als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Script MT Bold"/>
              </a:rPr>
              <a:t>buried he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Picture 2" descr="C:\Documents and Settings\Кравцов Иван\Рабочий стол\аббатство\8.jpg"/>
          <p:cNvPicPr/>
          <p:nvPr/>
        </p:nvPicPr>
        <p:blipFill>
          <a:blip r:embed="rId2"/>
          <a:stretch/>
        </p:blipFill>
        <p:spPr>
          <a:xfrm>
            <a:off x="3500280" y="2000160"/>
            <a:ext cx="442944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7334280" cy="1243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066320" y="1988640"/>
            <a:ext cx="7543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rebuchet MS"/>
              </a:rPr>
              <a:t>TRAFALGAR SQUAR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rebuchet MS"/>
              </a:rPr>
              <a:t>WESTMINSTER ABBE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rebuchet MS"/>
              </a:rPr>
              <a:t>BIG BE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rebuchet MS"/>
              </a:rPr>
              <a:t>THE TOWER OF LOND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rebuchet MS"/>
              </a:rPr>
              <a:t>BUCKINGHAM PALAC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rebuchet MS"/>
              </a:rPr>
              <a:t>LONDON BRIDG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rebuchet MS"/>
              </a:rPr>
              <a:t>THE NATURAL HISTORY MUSEU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4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7255080" cy="1243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85480" y="2060640"/>
            <a:ext cx="7786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How do we get to the museum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Can you tell me, where is Trafalgar Square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Have you ever been to Lond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Have you ever seen Buckingham Palace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4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2"/>
          <a:stretch/>
        </p:blipFill>
        <p:spPr>
          <a:xfrm>
            <a:off x="420840" y="255600"/>
            <a:ext cx="725472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Как мне добраться до Трафальгарско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площад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Вы не подскажете, где находится Букингемский дворец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Вы когда-нибудь были в Лондон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Вы когда-нибудь слышали о знаменитой башне Биг Бен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4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4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7255080" cy="1170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How do we get to Trafalgar Squar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Big Ben is a famous clock tower in the centre of London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Can you tell me, where is Hyde Park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Have you ever heard about Madam Tussaud’s museum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204"/>
                </a:solidFill>
                <a:latin typeface="Trebuchet MS"/>
              </a:rPr>
              <a:t>Биг Бен – самая знаменитая башня с часами в центре Лондо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204"/>
                </a:solidFill>
                <a:latin typeface="Trebuchet MS"/>
              </a:rPr>
              <a:t>Вы когда-нибудь слышали о музее восковых фигур мадам Тюссо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204"/>
                </a:solidFill>
                <a:latin typeface="Trebuchet MS"/>
              </a:rPr>
              <a:t>Как нам добраться до Трафальгарской площади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204"/>
                </a:solidFill>
                <a:latin typeface="Trebuchet MS"/>
              </a:rPr>
              <a:t>Вы не подскажете нам, где находится Гайд Парк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4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11" descr=""/>
          <p:cNvPicPr/>
          <p:nvPr/>
        </p:nvPicPr>
        <p:blipFill>
          <a:blip r:embed="rId2"/>
          <a:stretch/>
        </p:blipFill>
        <p:spPr>
          <a:xfrm>
            <a:off x="493560" y="500040"/>
            <a:ext cx="7255080" cy="11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Трафальгарская площадь, достопримечательности Лондона"/>
          <p:cNvPicPr/>
          <p:nvPr/>
        </p:nvPicPr>
        <p:blipFill>
          <a:blip r:embed="rId3"/>
          <a:stretch/>
        </p:blipFill>
        <p:spPr>
          <a:xfrm>
            <a:off x="1000080" y="1571760"/>
            <a:ext cx="6286680" cy="3857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4"/>
          <p:cNvSpPr/>
          <p:nvPr/>
        </p:nvSpPr>
        <p:spPr>
          <a:xfrm>
            <a:off x="1332000" y="5445000"/>
            <a:ext cx="712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Bodoni MT Condensed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Bodoni MT Condensed"/>
              </a:rPr>
              <a:t>is the heart of tourists’ London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1000080" y="285840"/>
            <a:ext cx="678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Script MT Bold"/>
              </a:rPr>
              <a:t>TRAFALGAR SQU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7255080" cy="927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Big Ben, Биг-Бен"/>
          <p:cNvPicPr/>
          <p:nvPr/>
        </p:nvPicPr>
        <p:blipFill>
          <a:blip r:embed="rId3"/>
          <a:stretch/>
        </p:blipFill>
        <p:spPr>
          <a:xfrm>
            <a:off x="500040" y="2000160"/>
            <a:ext cx="3571920" cy="36543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3643200" y="1785960"/>
            <a:ext cx="442908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doni MT Condensed"/>
              </a:rPr>
              <a:t>is a famous clock tower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Bodoni MT Condensed"/>
              </a:rPr>
              <a:t> in the centre 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Bodoni MT Condensed"/>
              </a:rPr>
              <a:t>of Londo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Статуя Нельсона на Трафальгарской площади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214280" y="428760"/>
            <a:ext cx="6000840" cy="4714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4284720" y="5373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28760" y="5214960"/>
            <a:ext cx="77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 Condensed"/>
              </a:rPr>
              <a:t>This is where public gatherings and political demonstrations take plac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5:46:43Z</dcterms:created>
  <dc:creator>Иван</dc:creator>
  <dc:description/>
  <dc:language>en-US</dc:language>
  <cp:lastModifiedBy>User</cp:lastModifiedBy>
  <dcterms:modified xsi:type="dcterms:W3CDTF">2008-03-12T16:15:03Z</dcterms:modified>
  <cp:revision>50</cp:revision>
  <dc:subject/>
  <dc:title>ДОСТОПРИМЕЧАТЕЛЬНОСТИ ЛОНДОНА</dc:title>
</cp:coreProperties>
</file>